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C993-F77D-4007-84AE-AE459440C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E0BF-F7A2-4778-8BA6-4AAE48B01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34BF-EC28-4E3A-9A4C-F958E2DC7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742E-8E5E-48D0-A535-E7FA33528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2FF06-8CD1-4A7F-9063-FF114E62B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FF0BB-2015-4BFB-AC7B-D942AEAEB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E27BD-7F6D-4FA1-B65E-288B63C4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EFD87-88ED-4579-AEEF-F5BEE8C14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FBB49-02CD-4C9E-B6E5-17FC34786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B616A-56CD-49E9-AD36-07847DA2B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62AC5-BEB4-48C6-B4AF-8A99BF68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662B-10D5-4CD5-B72B-DDD995075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506F3-8B2B-46A1-B3C4-C874824E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40732-36BB-432B-AB74-D29BBFC7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39F2F-8078-408B-944F-0C5F107D8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A4CEB-8D0B-44CE-BA67-885B98F07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9D031-F453-4258-984C-89A4754E8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2ACB-0DC3-4059-93CD-7146E7A00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DCED-3C26-41F0-961A-4799E39A4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09C6-AE01-4070-A784-C5D62D10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8A54-B44D-4D23-9016-8DD4A7060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4194-BDD0-49A2-9279-090880B4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904B-9BCF-4188-82C1-16CD6DE5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B96B-E009-4DFA-9F73-DABAE71C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48D3C-4167-44B8-BC76-C269E6AB270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69043-CF31-4FA4-A702-404AA1A00C6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la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finition: Mark was glaring at his broth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ynonyms: look 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tonyms: igno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se Word: gla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flection: 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638680" y="1676520"/>
            <a:ext cx="1871640" cy="16556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816520" y="3429000"/>
            <a:ext cx="1639800" cy="2035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0047ff"/>
            </a:gs>
            <a:gs pos="100000">
              <a:srgbClr val="00008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orytel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finition: Someone who tells sto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ynonyms: Tells sto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tonyms: Speak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se Word: Story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flection: 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602320" y="1890720"/>
            <a:ext cx="1411200" cy="14605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364000" y="3454560"/>
            <a:ext cx="2025720" cy="15793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orro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finition: to borrow something from somebod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ynonyms: to steal someth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tonyms: u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meth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105520" y="3429000"/>
            <a:ext cx="181440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50000">
              <a:srgbClr val="4d0808"/>
            </a:gs>
            <a:gs pos="100000">
              <a:srgbClr val="fff2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ag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finition:  excited and nerv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ynonyms: happ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tonyms: S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se word: e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flecion: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518080" y="2575080"/>
            <a:ext cx="2000160" cy="1836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attered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finition: When you are col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nonym: freez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tonyms; STEEL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llable: CHATT.ER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SE WORD: CHAT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flection: er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486400" y="1600200"/>
            <a:ext cx="2066760" cy="17352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5753160" y="3733920"/>
            <a:ext cx="1484280" cy="17524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br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finition: A Spanish word boo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ynonym: Espano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tonyms: Englis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yllable: Li.br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se word: l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flection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osevelt2</cp:lastModifiedBy>
  <dcterms:modified xsi:type="dcterms:W3CDTF">2008-10-28T19:30:04Z</dcterms:modified>
  <cp:revision>8</cp:revision>
  <dc:subject/>
  <dc:title>PowerPoint Presentation</dc:title>
</cp:coreProperties>
</file>